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AE6-3555-46BE-8FC7-9590AB88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6CF-D260-47FC-BB66-BD633324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D07-9D9E-4208-8B6A-305D1BA9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F68-60F4-495F-AF0F-640F8DC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50B8-CF02-4B28-B937-9E50BB0C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0511-489E-4CE2-BE14-5B224C6A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C4AE-C7FA-400A-8FD2-84C93A5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1A54-9C6B-436D-97E9-E5F0B9E9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3490-DED2-4E09-A768-1B3AD89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9C5-C196-461C-910E-234C433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104-EBAE-40A8-BC9A-81FBE5C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92D-C7B4-4F49-B349-6B8044E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35A-8EC8-4D75-98BE-6A3A458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3E8-F8D2-4686-B128-1C254368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BD0-B186-4435-92E9-9FAB0200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BDAD-7F2A-4E4F-B505-E74608D9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50A-1E47-4792-B26B-B93B8E24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073-2786-4EC8-AA14-F67DAE6B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0CA-520E-4771-972D-CC69348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143-D263-4569-B7F7-C0F626B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4B1-DD1B-48F4-BB4B-CEC6868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7AB-01C7-4382-974A-53DE035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AAC-0AFA-4A1B-9DB6-591D5DA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764-2B82-4D86-A843-9C4FF4B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80B-6416-4452-9442-94B8A9BED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erlin Sans FB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erlin Sans FB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3C0-1075-4C29-B8EF-E110CB5968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erlin Sans FB"/>
              </a:rPr>
              <a:t>Researcher’s Toolbox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Berlin Sans FB"/>
              </a:rPr>
              <a:t>for Educat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Berlin Sans FB"/>
              </a:rPr>
              <a:t>Educational Leadership 70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Polk Library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Interlibrary Loan (I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quest books and  articles not owned by Polk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Universal Borrowing (U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quest books or audiovisual materials from other UW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r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enew materials and monitor U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4560" y="1980720"/>
            <a:ext cx="38098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Off-Campus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olk Library’s online resources are available off-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lways access through the Polk Library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f you experience problems please contact 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48320" y="5486400"/>
            <a:ext cx="4267080" cy="1313640"/>
          </a:xfrm>
          <a:prstGeom prst="rect">
            <a:avLst/>
          </a:prstGeom>
          <a:solidFill>
            <a:srgbClr val="00e4a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ccess using you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1)Your 16-digit Titan Card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2)Your Last Name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9480" y="5181480"/>
            <a:ext cx="3353040" cy="1472400"/>
          </a:xfrm>
          <a:prstGeom prst="rect">
            <a:avLst/>
          </a:prstGeom>
          <a:solidFill>
            <a:srgbClr val="00e4a8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ccess using your: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Your email username and passwor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Berlin Sans FB"/>
              </a:rPr>
              <a:t>Your Titancard is Your Library Ca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760" y="243828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your Titancar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out library and reserve materi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new library materials on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quest materials through Universal Borrow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Interlibrary reque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Photo and Microfilm copiers (Titian dollars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219320" y="28195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04812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Working with a Research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is your topic area of resear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s informal assessment a reliable and valid method of evaluating student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Provides a list of concepts or ide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s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informal assessment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a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method of evaluating </a:t>
            </a: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Helps you determine if your topic is too broad or too na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Putting together a Search  Vocabul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476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Are there any synonyms or related terms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Evaluation/assessment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cademic Success/Academic Achiev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acher performance/Teacher Competenci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What are broader and narrower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Evaluation-informal assessment/needs assess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Can the terms plural, singular or a word vari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Student/Stud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st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Does any of the terms have other meaning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Undefined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Benefit/disadvantage/impact/effec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Berlin Sans FB"/>
              </a:rPr>
              <a:t>How does the resource define the conc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isruptive Behavi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– Behavior Probl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9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ssessment</a:t>
            </a: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-evaluation/te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Finding Word Vari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run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The addition of symbol to the end of a root word to retrieve variant end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Usually a ? or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ind both the singular and plural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79000" y="25909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715000" y="3200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test</a:t>
            </a:r>
            <a:r>
              <a:rPr b="1" lang="en-US" sz="2400" spc="-1" strike="noStrike">
                <a:solidFill>
                  <a:srgbClr val="ff0000"/>
                </a:solidFill>
                <a:latin typeface="Berlin Sans FB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erlin Sans FB"/>
              </a:rPr>
              <a:t>Narrowing or Broadening your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381456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The most frequently used oper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Looks for both terms in the rec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Always makes the search results small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3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4952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952880" y="3352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nformal assessment and validity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480" y="205740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(narrow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62120" y="4876920"/>
            <a:ext cx="4800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Expands your search by locating either term in the record</a:t>
            </a:r>
            <a:endParaRPr b="0" lang="en-US" sz="2200" spc="-1" strike="noStrike">
              <a:solidFill>
                <a:srgbClr val="000000"/>
              </a:solidFill>
              <a:latin typeface="Berlin Sans FB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lin Sans FB"/>
              </a:rPr>
              <a:t>Useful for searching</a:t>
            </a:r>
            <a:endParaRPr b="0" lang="en-US" sz="22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Synonym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Related term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omparisons</a:t>
            </a:r>
            <a:endParaRPr b="0" lang="en-US" sz="18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35320" y="44956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Broadens)</a:t>
            </a:r>
            <a:endParaRPr b="0" lang="en-US" sz="24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257800" y="5791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alidity or reliability</a:t>
            </a:r>
            <a:endParaRPr b="0" lang="en-US" sz="2000" spc="-1" strike="noStrike">
              <a:solidFill>
                <a:srgbClr val="000000"/>
              </a:solidFill>
              <a:latin typeface="Berlin Sans FB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3749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14"/>
          <p:cNvGraphicFramePr/>
          <p:nvPr/>
        </p:nvGraphicFramePr>
        <p:xfrm>
          <a:off x="5562720" y="1828800"/>
          <a:ext cx="243828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828800"/>
                    <a:ext cx="243828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Berlin Sans FB"/>
              </a:rPr>
              <a:t>Do you have Limi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77240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Limiters are special conditions that are required for the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rticles published in the last 10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eer Reviewed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9:37:08Z</dcterms:created>
  <dc:creator>UW Oshkosh</dc:creator>
  <dc:description/>
  <dc:language>en-US</dc:language>
  <cp:lastModifiedBy> </cp:lastModifiedBy>
  <cp:lastPrinted>2002-01-31T19:04:35Z</cp:lastPrinted>
  <dcterms:modified xsi:type="dcterms:W3CDTF">2010-09-29T22:51:29Z</dcterms:modified>
  <cp:revision>48</cp:revision>
  <dc:subject/>
  <dc:title>Researcher’s Toolbox  for Education</dc:title>
</cp:coreProperties>
</file>